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43725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EEAE-0C03-4D6C-BD6B-71F65EE8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7FCB-BA61-471F-BBEC-15C3EEE5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349-990C-4372-8387-F2DCF050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DDB-CAC1-4363-8DE9-3860ED7E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270-CF5F-4DB6-BA25-7BF3FD63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EAB9-1599-4D2B-9457-3A57D82B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516-A7CA-4CC9-BA30-2539F68C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41B-3BB8-40F9-995B-C9E35942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074C-7478-4946-8BEA-2E976527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58D2-48A0-4BCA-8580-95909241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286-5BD1-4D21-B56B-6B1B0420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94F-4B5A-4D0A-B125-6FFCA3A1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2788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863640" y="656604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E83B-FC35-481E-A297-D4E848E8E87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4114440"/>
            <a:ext cx="8001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Optimizing For Hardware Transform and Lighting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 Dietri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Corp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ietrich@nvidia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hared Resource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PU is a co-processor to the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can keep both processors busy, speed will be excell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o work together, the CPU and GPU must sometimes share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sharing is managed poorly, you will get no overlap between the GPU and CPU and performance will s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Keeping GPU &amp; CPU Bus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a shared re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must write data into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PU must read data out of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I tries to ensure that both of these won’t occur in the same place at the sam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control how strictly access to the VB is mana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is managed through three flags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WRITEON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DISCARDCONT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WRITE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3DVBCAPS_WRITEONLY when creating your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this fl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USE DDVBCAPS_SYSTEMMEMORY, or you will not get AGP or video memory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will require the driver to copy the data into AGP fir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ould have just put it there yourself and saved the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specify this cap, you can only lock w/ DDLOCK_WRITEON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DISCARDCONTEN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flag tells D3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just need more space, give me a pointer with junk in it, please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ying this flag allows the driver to “rename”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saying that you don’t want the object back that you just drew, you are saying that you are going to fill up part of this with new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prevents stalling the CPU &amp; G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NOOVERWRIT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DLOCK_NOOVERWRITE says “I am just appending data to the VB, no need to stal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lows you to append data to a VB without incurring a stall of the GPU &amp;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Using These Flags Togeth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0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of Frame – Lock your Dynamic VB with DDLOCK_DISCARD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iving you an empty buff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with data to ren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Unlock(), then DrawIndexedPrimitiveVB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as long as there is room in the VB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ck with 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end Data into VB poin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lock(), and DIPVB(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un out of room, just lock the SAME VB with the DDLOCK_DISCARDCONTENTS and rep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Dynamic VB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use ONE dynamic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issue with DX7 requires this for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mplies using the largest FVF you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triangles in large batches if you c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DrawPrimitive, or DrawIndexedPrimitive, even fo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will ALWAYS cause a stall of the GPU &amp; C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out your system’s AGP perf with BenMark from ou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 should get 14 million tps @ AGP2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~22 million w/ AGP 4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VB Perf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8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VB is more expensive than changing textures – this is an API thing, not the H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do your own VB “round robin” – that’s what the DDLOCK_DISCARDCONTENTS flag is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ONLY DDLOCK_DISCARDCONTENTS, there are only so many “rename” buffers – use appending,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one or two static VBs, and use index lists for different objects within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into DynamicVBs sequentially for AGP write-combining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ource Cod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rote an extremely lightweight wrapper for correct Dynamic VB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NVIDIA’s Develope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++ heads ( like m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p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Cull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PU is still needed for gross cu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 Frust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here, AABB, OBB, Cone, Cylin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cclu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use span buffers or C-buffer – too much CPU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ght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lights that are too far away to affect the o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point lights into directional if far a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g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fog if objects are too far from the fog pl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Goo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0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T&amp;L is extremel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GTS can achieve 22 million drawn triangles per second – Quadro2, Ultra even mo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ardware T&amp;L correctly is very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X7, it all happens through Vertex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ulling and Clipp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5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gross culling on the CPU, but leave the Clipping to the G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H/W clipping to be fast ( GeForce clipping is essentially fre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guard band clipping to be ver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cull individual polys unless you cull them very early and they are quite 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ling should be at the model or hierarchy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world geometry at the BSP Leaf or OctTree cub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/W will clip out  1.0 &lt; z &lt; 0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CPU to perform gross L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terrain, don’t use ROAM – too CPU heavy – cheaper to just draw the darn triangles than to figure out which ones to draw and which to sk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adaptive terrain, do one where yo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don’t track previous frame’s terr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Don’t do screen space error for every triang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Can ‘quit’ at a high enough level to keep large batch sizes – Quadtree approac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do View-dependent progressive mes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ain, too much CPU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Independent Progressive Meshes look great and are trivial to use with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try to scale to frame rate by adding or removing triangles in small groups on a T&amp;L c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just wasting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0% of frame rate drops are CPU or fill-bound, not triangle bo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 less LOD calculations when frame rate drops, not more, save the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depth of volumetric effects, especially when player is ne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particle counts, especially when player is inside the particle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er won’t no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ight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ulti-pass, you often don’t need it on for both p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n &amp; off lights per object based on distance from l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per-vertex material properties if you don’t need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ing the per-vertex diffuse for the diffuse material is expensive – use it wise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local viewer for specular lighting if not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are not sure, you probably wouldn’t not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SpecularEnable if you aren’t using specular for this p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Vertex Cach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Force GPUS have a ~10 entry FIFO vertex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t-transformed vert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euse an indexed triangle within 10 vertices, you save the AGP B/W &amp; transform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don’t index, or don’t re-use, you pay both AGP &amp; transform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astest primitive is indexed strips, sometimes only the cost of one short per triangle if all reside in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NVStripifer on our website to optimize your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 known f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fill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Xform or setup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n different parts of the same sc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Engines in parallel – vertex and pix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fill rate, b/w and max xform/setup rate you can determine what the optimal triangle size is for a G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GeForce, with a few lights on it’s about 100 pixel triang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gger Tris get you temporarily fill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r Tris get you vertex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expensive vertices ( more lights or xform work ) need bigger triangles to balance 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temporarily fill bound ( Tri too big ), you lose xform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xform bound ( xformed vertex cache is full ) you loose potential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one reason why you may not see the optimal vertex or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one engine is backed up, the other will eventually idle – and you never get this time ba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you are drawing the sky, you lose potential triang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at you can tessellate down to the optimal triangle size in these cases for FR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Stat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has provided a Statistics Driver for registered develo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ten by Ken Hurle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install two p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monitoring prog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pecial stats dri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start the monitoring and then run your a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, you can use a hotkey to toggle the stats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t your app and see where you are forcing a SpinLock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e CPU &amp; GPU are id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tats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means the CPU is waiting on the GPU to finish with some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ually a shared resour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apps spend quite a bit of time he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time is totally was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 Driver monitor will tell you where your d3d &amp; driver CPU time is go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app should be spending &gt; 60% of the Driver time in DrawIndexedPrimitive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should be &lt; 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log file can help you track down the culpr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8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&amp;L is Faster, but it is diffe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irst time you port to DX7, you will almost certainly do it wrong! ;(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tatic VBs for static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am vertex data through Dynamic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stat driver often when working on rendering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ke out stalls as soon as they are introduc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ure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B or ZB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B Locks w/out proper 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Primitive or DIP, not the VB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Ba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7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W T&amp;L incorrectly is even *easier* than getting i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apps are slower when first ported to T&amp;L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? Because the obvious way to use VBs is NOT the right 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replace many DrawPrimitive calls with many DrawPrimitiveVB calls, you will be very disappoi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Questions…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71720" y="1600200"/>
            <a:ext cx="15872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19112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 Diet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.dietrich@nvidi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A New API Path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D3D TnL HAL” Device is new for DX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lows access to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P and video memory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Coordinate Generation “TexGen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Fo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Ligh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Cli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ransform &amp; Proj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D3D TnL HAL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nL HAL is a different API and driver path than the H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different Performance Characte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en more oriented towards batching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er memory overhead for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DDraw Surfaces, so have a 2K memory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expensive to create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the potential to be lighter-weight and faster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What is a Vertex Buffer, Anyway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answers to this question, one for Static VBs, and one for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Bs are like textures.  You create them at level load time in AGP or video memory and leave them t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eat for terrain, rigid-body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 good for skinned, animated characters or procedural eff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VER create a VB at runtime – it can take 100s of millisecon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Vertex Buffers are Write 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not designed for getting results back with ProcessVertices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never get the result of T&amp;L 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at’s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need to do collision detection or culling, you’d do best to use a separate simpler database any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in point – Do you really need to walk through U,Vs &amp; diffuse colors when doing collision wor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Bs should always be WRITE_ONLY – even on non T&amp;L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sort of like like streaming DVD vid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re is not enough space to hold every possible frame of animation, just like there wouldn’t be enough space to hold a DVD video in 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us, many effects are truly dynamic and have an essentially infinite number of possible sta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ocus is on getting the vertex data from the app to the card as efficiently as possi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Myths Of 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r data isn’t static, you can’t use T&amp;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ong, VBs were designed to handle Dynamic data, t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T&amp;L is so slow as to be worthl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ly incorrect, Dynamic T&amp;L is still faster than static CPU T&amp;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hard to manage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have a single page of source code to prove this one wro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23:12:18Z</dcterms:created>
  <dc:creator>Richard Huddy</dc:creator>
  <dc:description/>
  <dc:language>en-US</dc:language>
  <cp:lastModifiedBy>Cem Cebenoyan</cp:lastModifiedBy>
  <dcterms:modified xsi:type="dcterms:W3CDTF">2000-10-06T21:30:25Z</dcterms:modified>
  <cp:revision>40</cp:revision>
  <dc:subject/>
  <dc:title>Hardware Transform and Lighting</dc:title>
</cp:coreProperties>
</file>