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416-0195-4B1C-8FB1-FD36E1AB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667-8E84-40D6-A1C2-8B29DFBB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523-2085-4DC5-AB18-E3E10132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F82B-95C9-4F37-A96F-769E42C6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B27CB-2495-4E8F-AAA5-B1BA2FD8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E5949-7A9D-4675-81DC-8AAD198E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11C30-80BF-446B-8BA9-5DA271AC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23917-3C6A-4F18-8E47-58A6D54D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9C732-D27F-43CB-9F80-C44FA63D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30230-3991-4328-800C-989F34E2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1377C-4C80-4F52-AAA0-8571528A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D55A-7EE6-4432-93A7-A101DCB7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74E77-A9B7-4D6B-8381-CB287B88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61169-D6CF-48BE-B080-1127C68B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C0A82-D1B1-43DA-9390-1533B7E5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F9F43-4460-443F-BD30-DFE6DAE5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8A992-C352-4042-AA0C-866FCACE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3FBB-917F-4DB3-B91E-AB1F7EEC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814-892B-4E17-B987-BC2F2512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C014-A75A-4FAA-B394-60A6F8CD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96D-B66B-4E82-AA6A-364080AB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411-264C-47C0-A868-EC182CE8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7BE-D8F4-493F-9EF4-00943280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3C00-6CAD-4BAA-BD70-28583B98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42C0-57F9-4BC2-8AB1-1BB05C2FE7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FA95-8AAE-484D-B485-674A4919A1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br>
              <a:rPr sz="6000"/>
            </a:br>
            <a:r>
              <a:rPr b="1" lang="de-CH" sz="2000" spc="-1" strike="noStrike">
                <a:solidFill>
                  <a:srgbClr val="ffffff"/>
                </a:solidFill>
                <a:latin typeface="Tahoma"/>
              </a:rPr>
              <a:t>by atlan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owerpoint by robocop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music by maliktrey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02120" y="1916280"/>
            <a:ext cx="290988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7612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0r w3 c@11 th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ahoma"/>
              </a:rPr>
              <a:t>th3y w1ll @rr3st y0u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86228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3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92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192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700"/>
                            </p:stCondLst>
                            <p:childTnLst>
                              <p:par>
                                <p:cTn id="3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200"/>
                            </p:stCondLst>
                            <p:childTnLst>
                              <p:par>
                                <p:cTn id="35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457200"/>
            <a:ext cx="2489040" cy="594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48292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48000" y="476280"/>
            <a:ext cx="2376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j@1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1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funn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200"/>
                            </p:stCondLst>
                            <p:childTnLst>
                              <p:par>
                                <p:cTn id="41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41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0"/>
                            </p:stCondLst>
                            <p:childTnLst>
                              <p:par>
                                <p:cTn id="42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25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200"/>
                            </p:stCondLst>
                            <p:childTnLst>
                              <p:par>
                                <p:cTn id="429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200"/>
                            </p:stCondLst>
                            <p:childTnLst>
                              <p:par>
                                <p:cTn id="433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700"/>
                            </p:stCondLst>
                            <p:childTnLst>
                              <p:par>
                                <p:cTn id="437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200"/>
                            </p:stCondLst>
                            <p:childTnLst>
                              <p:par>
                                <p:cTn id="441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700"/>
                            </p:stCondLst>
                            <p:childTnLst>
                              <p:par>
                                <p:cTn id="445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200"/>
                            </p:stCondLst>
                            <p:childTnLst>
                              <p:par>
                                <p:cTn id="449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7750"/>
                            </p:stCondLst>
                            <p:childTnLst>
                              <p:par>
                                <p:cTn id="45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750"/>
                            </p:stCondLst>
                            <p:childTnLst>
                              <p:par>
                                <p:cTn id="45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another nice atlantis release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greetings to all our friends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+++ no carrier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89323 -0.82084 E">
                                      <p:cBhvr>
                                        <p:cTn id="47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88212 0.77408 E">
                                      <p:cBhvr>
                                        <p:cTn id="48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700"/>
                            </p:stCondLst>
                            <p:childTnLst>
                              <p:par>
                                <p:cTn id="4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49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700"/>
                            </p:stCondLst>
                            <p:childTnLst>
                              <p:par>
                                <p:cTn id="49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200"/>
                            </p:stCondLst>
                            <p:childTnLst>
                              <p:par>
                                <p:cTn id="4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0.47899 0.72801 E">
                                      <p:cBhvr>
                                        <p:cTn id="49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549440"/>
            <a:ext cx="878544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1" lang="de-CH" sz="8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88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exit" presetID="5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33d tr0ub13z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441440"/>
            <a:ext cx="1003320" cy="198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12000" y="1441440"/>
            <a:ext cx="1090800" cy="1987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1245960" cy="198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812000" y="4292640"/>
            <a:ext cx="1094040" cy="1989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81080" y="-1900080"/>
            <a:ext cx="9721800" cy="107280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93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-114300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path" presetID="3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C 0.03143 0.06042 0.07778 0.12292 0.11563 0.14792 C 0.17223 0.18842 0.22657 0.20393 0.23733 0.18356 C 0.24584 0.16342 0.20764 0.11319 0.15122 0.07268 C 0.11337 0.04745 0.04427 0.03009 -0.01649 0.02754 C -0.07534 0.03009 -0.1467 0.04745 -0.18454 0.07268 C -0.24097 0.11319 -0.27882 0.16342 -0.2684 0.18356 C -0.25781 0.20393 -0.20347 0.18842 -0.14895 0.14792 C -0.11111 0.12292 -0.06302 0.06042 -0.03333 1.48148E-006 C -0.00208 -0.06296 0.01893 -0.14607 0.01893 -0.19884 C 0.01893 -0.27917 0.00452 -0.34144 -0.01649 -0.34144 C -0.03576 -0.34144 -0.05225 -0.27917 -0.05225 -0.19884 C -0.05225 -0.14607 -0.02934 -0.06296 -3.61111E-006 1.48148E-006 Z">
                                      <p:cBhvr>
                                        <p:cTn id="12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600"/>
                            </p:stCondLst>
                            <p:childTnLst>
                              <p:par>
                                <p:cTn id="129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600"/>
                            </p:stCondLst>
                            <p:childTnLst>
                              <p:par>
                                <p:cTn id="13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81080" y="-1827360"/>
            <a:ext cx="9650520" cy="10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-139536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0nc3 m0r3, 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4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5521 -1.65208 L -0.31042 0.122 C -0.30156 0.122 -0.29323 -0.07662 -0.2816 -0.07986 C -0.26667 -0.03842 -0.23768 0.33704 -0.22049 0.37014 C -0.20365 0.37014 -0.19219 0.11852 -0.17795 0.11852 C -0.15868 0.11852 -0.2434 -0.06134 -0.2066 -0.06134 L -0.07674 -0.08032 L -0.11771 0.23866 L -0.01458 0.122 L 0.04444 0.29051 L 0.08107 0.12084 C 0.1118 0.11713 0.07934 -0.03101 0.11007 -0.03726 C 0.12118 -0.03819 0.13472 0.15301 0.15156 0.15533 C 0.1684 0.15811 0.19496 -0.01435 0.20035 -0.01319 C 0.20937 -0.0081 0.21562 0.15811 0.22656 0.16088 L 0.27396 0.08102 L 0.95312 0.38125 E">
                                      <p:cBhvr>
                                        <p:cTn id="16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9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0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9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91960"/>
            <a:ext cx="8229600" cy="61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0w3rp0Int</a:t>
            </a: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ru1@z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5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209680" cy="575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3204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16360" y="504720"/>
            <a:ext cx="2879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D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133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Pr0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xit" presetID="53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17:55Z</dcterms:created>
  <dc:creator>powerpoint : robocop / music: maliktrey</dc:creator>
  <dc:description>;-)</dc:description>
  <dc:language>en-US</dc:language>
  <cp:lastModifiedBy>RBC</cp:lastModifiedBy>
  <dcterms:modified xsi:type="dcterms:W3CDTF">2005-08-16T04:12:34Z</dcterms:modified>
  <cp:revision>47</cp:revision>
  <dc:subject>buenzli powerpoint fun compo</dc:subject>
  <dc:title>atl-007-p0w3rp0Int ru1@z</dc:title>
</cp:coreProperties>
</file>