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The%20Microsoft%20Sound.wav" ContentType="audio/x-wav"/>
  <Override PartName="/ppt/media/image2.png" ContentType="image/png"/>
  <Override PartName="/ppt/media/image3.png" ContentType="image/png"/>
  <Override PartName="/ppt/media/clap.wav" ContentType="audio/x-wav"/>
  <Override PartName="/ppt/media/driveby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LOGOFF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Custom Show 1" id="0">
      <p:sldLst>
        <p:sld r:id="rId3"/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0463-5530-446C-985C-6715EC8D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AC83-5FA6-48EF-8D01-26557C58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CA64-46CA-42CF-8EF2-C31BAD07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5E3E-B644-4E23-9504-7929230A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B56C-BD8F-49E5-9142-DAA38CF5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215-73B4-45ED-BF1D-D4D962FF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7378-7178-495C-A124-EF2C8667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771C-4B0D-48FE-9033-F8A3181C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D4A7-E6A8-4CBA-98F7-308388B0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955F-EF41-46E4-9A02-8D14CFC7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9CB7-8634-4589-9F02-814D50B5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1012-BA18-4C51-944F-43BD8DEE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2319-1C55-4489-A6F9-DA00F716E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%20Microsoft%20Sou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OGOFF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" descr=""/>
          <p:cNvPicPr/>
          <p:nvPr/>
        </p:nvPicPr>
        <p:blipFill>
          <a:blip r:embed="rId1"/>
          <a:stretch/>
        </p:blipFill>
        <p:spPr>
          <a:xfrm>
            <a:off x="880920" y="704880"/>
            <a:ext cx="7380360" cy="54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The%20Microsoft%20Sou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driveb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carbrak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clap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" descr=""/>
          <p:cNvPicPr/>
          <p:nvPr/>
        </p:nvPicPr>
        <p:blipFill>
          <a:blip r:embed="rId1"/>
          <a:stretch/>
        </p:blipFill>
        <p:spPr>
          <a:xfrm>
            <a:off x="507960" y="376200"/>
            <a:ext cx="8126280" cy="61038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LOGOFF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" descr=""/>
          <p:cNvPicPr/>
          <p:nvPr/>
        </p:nvPicPr>
        <p:blipFill>
          <a:blip r:embed="rId1"/>
          <a:stretch/>
        </p:blipFill>
        <p:spPr>
          <a:xfrm>
            <a:off x="142920" y="160200"/>
            <a:ext cx="8858160" cy="6537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3:56:44Z</dcterms:created>
  <dc:creator>DirtySlesk</dc:creator>
  <dc:description/>
  <dc:language>en-US</dc:language>
  <cp:lastModifiedBy>DirtySlesk</cp:lastModifiedBy>
  <dcterms:modified xsi:type="dcterms:W3CDTF">2000-10-04T04:47:42Z</dcterms:modified>
  <cp:revision>2</cp:revision>
  <dc:subject/>
  <dc:title> </dc:title>
</cp:coreProperties>
</file>